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18FC-EAC6-4183-BF0B-473FEF77693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3F4E-981D-4731-B744-184DE4A934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903E-7A62-41E1-ADDB-030D3D5910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5169-DA81-4A4A-AB76-8AB970243C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7A0F-98DC-4624-BC2F-816AD7738A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1B22-8B5B-420A-A021-8855B05E58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9A00-A3F9-4BE9-A30B-6D7CD0F571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4C8-F3D6-4EB1-9CCA-0371B9EC25A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2B68-9557-40DC-8A4C-6B0CAF9F36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32F1-191E-4112-9AB6-B7A4763E29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1D8C9-0226-49E2-9258-D7B39D6E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806A2-5F40-4C36-849D-5B010451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B512F-3186-49FE-A903-D5B1C008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FFC64-3865-4EB7-A1F0-83654BA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92EC3-31C8-41A8-86AB-5E82CAC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04ED-1C4A-496F-8272-CAFA2EF2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5BC1-04A2-4C35-B65C-F788B3CD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3DCB-D95D-4CE5-AE25-36DA33BD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C654-43EF-4D6A-B1C2-73FDA4D2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68E7D-79AF-4F6F-968D-A57CF33B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7C5F5-FD7B-4B41-B715-2F466F6A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8ABD7-7416-40FB-BE45-9484C7E4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021B4-E034-4ABD-B0CC-A66BE9B7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B74BC-754C-4B19-97FA-4E104F0D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7FDEB-F61D-4EF2-A159-7C2FFB1D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4E81B-24C8-4F64-8036-29F158A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B5891-EA14-4110-8E38-C5BD6E2B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B34D2-91A2-4D6D-813D-D48626FA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49681-57ED-4CEF-8A0A-0FC2D7AE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2C54-3B4D-4D2A-857B-85222476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7BF73-FE18-494A-A7E9-ED0D34A7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329AB-2FAC-4FE9-8809-C396841B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F4521-D928-40D0-8E5F-20F6EC62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7B99D-DA50-485C-8DE5-05539C41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8B3DC-AFAE-4C2F-BD0B-B08DE847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BEB79-ECCA-4303-87D1-D713E121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EAF40-35E9-4143-81F6-4FBBB99D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36DDC-490C-4822-8AF3-D2D8F5F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F4FCD-9626-4014-9B26-D13E27AC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8C08F-899A-4308-A874-4F55AA09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97F-ED44-4952-B3DC-889C17A0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59F95-56B6-4D23-93FE-CB354FE3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35E6D-3901-4E8C-B19F-B36118CE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E23E2-09C1-4EBB-8763-D8AFC5A0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8AF94-594C-4B3B-A055-F843C242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25AC1-58AC-45C4-B7A5-66C19A12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22B5B-CB49-4C07-B2C7-E6068C8B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23E26-0D87-49FD-8A67-3FB9C6E8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8C8DA-3E14-4B7E-B25B-020671CF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3A785-B744-4F41-8804-A7C563C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1D14B-002E-4FED-BD8C-4EF00C17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66E-8166-48C5-9E45-DC9DA1BB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0D738-D183-4CA3-8592-EC3B5592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E1D27-63CE-4654-B5A5-35E74CF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E435F-699B-4E7C-A8D7-44F77A8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E82AA-537A-42E7-BE73-13130D81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76102-E0DB-4180-BDB4-90D4DF45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4E33D-ADCC-4971-BE09-83FF19F5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9FCA4-6B91-4A2A-9C5A-F1928E45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90FE6-08F4-4281-8061-BCB3C671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01DB2-2ACC-4029-B9F0-A9059DDF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BB5E4-A956-4500-88DE-A1AAD4E0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FEE-D729-4E97-85CC-80532BBF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F3D44-CF5B-45BB-A1F9-292F6725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10A3E-FA61-41E8-B5B4-8252518E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726F5-AD03-4662-9CF2-762C658C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736A4-2B3B-4B7F-80FE-D355FB2B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0E35C-D7EE-4C92-9E93-2CE93F6F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E55FC-8913-487F-B946-7C64E52A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4D13C-6684-4C9E-9CCC-AC64A2F6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10A0A-C96F-4076-BCE8-8BF73A46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7DD5F-3D53-4BA6-9B57-4B40B10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E272D-9D79-4FCD-A039-1CE436D0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B33-1B27-4A0C-953C-40E1E2A8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F04B7-E9CF-4A7E-BE2D-64FA3CF3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7BD2C-1A5C-4259-B3AE-19AC2C84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F8137-73DC-4862-9E90-4CDD877D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77E26-8752-49AC-800D-733D809E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5A818-51EE-4A2B-820D-4B1A69F5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43D07-19DE-4328-8E66-80BBF6B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E424B-62ED-482F-8687-7AFF34F3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FE53E-883C-47C8-80C0-F0051130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BFF6F-693F-4A6A-8F5D-3B59D398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6BE9A-B361-4681-AB7D-9B58A1AF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9EA-8974-4DDA-98AA-B04432B9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C115B-3B3C-436F-A068-5E7E277F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7EDFE-C3CC-46DE-A4DC-0399A6C2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20C60-E344-41AE-A7C9-1C5B7BF8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8B8E1-FDAE-47E5-9842-C4A40202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C42EF-6F25-47E3-8A6C-7217D4F2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DAFCE-9084-40A4-AA7D-73B8609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DF5F3-5EFF-4261-BC68-F0C20A53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6DFED-8823-49DC-B3D0-AA83EE9E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BC554-A2A4-4B35-B450-21B198C0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0FFAA-021D-4AB0-BD77-A015A9AB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524-AC29-40C5-91FD-A6B0FFEC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8FEEF-5228-455D-857F-DB7A3CA1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A0960-E443-4C73-9004-0B6F89C1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D0EB5-7F8B-47B3-B697-DBA09761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F69D6-DC62-4F6F-B3D3-D01E00E7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ED8A2-4164-4C04-A60C-F6C9BA4A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5EFFD-BC2F-43C4-97E8-6B39D8B1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2D4A5-DC30-4D66-8537-6B346A5B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A8419-52FA-48EC-A2A6-C54914D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6AB97-68CA-4D7D-B032-0B6E489D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F8802-3C78-4AA2-B4DA-2452FBC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BD5-C281-4126-918D-0CDB3C5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AC0D4-6AA6-428E-8CF4-0B661D56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9A3E0-59FD-492E-8E76-8AF222BD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5137C-D45C-48C7-9D43-7C71F666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DA2-5C05-41EA-969C-A83D7EF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380-5C33-4005-A674-5E07AA00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272-25C1-48DC-9041-DFCBE649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BBC-33ED-47E4-B7ED-6B71AB5B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99C-C261-4AB6-8F4D-721B4839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4ADF-0192-46E2-B6AE-F638419C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9E9E-153A-4F98-A598-6D572E09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2B94-83F7-4FE0-9CD3-F623AA69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6EDB-BB91-43C2-9D64-30EA63E4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17A-8141-4D5A-993F-955E383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C2AC-CE2C-47E7-B798-5162AB30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07CE-A1A8-4C50-8BB6-C8082B5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D033-BBEF-4531-ABC0-8B8BE9F1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41FC-E598-4D48-A821-9984167B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B2EA-4118-4E4A-B86E-1676FC68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FFD6-B1DC-4A4D-B2DA-C1720904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289E-CD68-4378-8DFE-87EC9473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AD3A-F291-41CE-9450-BE5F5CA1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D4CB-B1D3-4E2C-BAFB-20B2A6B6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0568-FC28-49A0-B1E9-58DD4FD5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AB7F-7E9D-4D8C-8015-F8525E92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B241A-3CEF-4040-AD91-7DE9FA97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E4F51-EBAF-4028-99A7-018BA753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9F31-F75B-4961-AC5C-23DD1638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3CF2-B3DB-4673-A422-15D1FEE7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DB8D-F5AA-4912-976C-E3C9C7C4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7A23-3D17-4232-8A73-4C9E6CAA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AF90-8686-4E2F-A4D9-79C08F69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1156-DDF0-4B75-A78B-295739AD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A9FC-45F6-4437-85EB-116F3FC6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47341-AB3E-41D0-9DD2-BA26C226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2BEE-99D2-44BB-AC2B-360D5576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4CDB-F025-4C82-8BEA-2308981C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95C4-0D37-4397-9806-81C08EF9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C452C-A1C0-4411-B9AE-7A6E4F5B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CDB8-4E93-453C-B2EE-A9178DA0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2F77-095E-4589-9C2D-9C7C9C80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DFBE-06CC-4D07-930E-2B7E964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E8AF9-2E41-4832-A79C-18357053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55DE-BC5F-4380-B7A3-A080C5AD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BD9A-45DE-49EB-A57F-A1865EDF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4EFB4-2BC0-4AA6-8C8F-CDB3C72E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0378-847F-4DA1-8A62-D0CCA536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7A27-E07B-4C8B-8207-60CF4787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3ED8E-EB41-497B-8B5F-EDCB3CB8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91114-DDFF-4740-B9B9-F57EAC6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86923-E5AD-463E-97B2-54476560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03CFE-0C5D-471D-9256-547DB7C3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69FB-3D76-4F3B-A8F7-9719EBEE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B0B0-2FCD-4BD3-AF0F-35407396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2F16C-897D-449E-8D57-3EDE0DDD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527DB-C4D3-4F73-89E0-DFD32B48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CA80-E2C8-4A1D-9A36-B1D1F1E4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7592-EE8F-4D0B-A41C-1C799B63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733B3-2847-44BA-A9CC-EB219977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1972-AB35-40B2-A7AA-65BB3568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F575-F260-4FB2-99B2-F921859C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7B1A5-570E-455C-BE70-F6E1DCB2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06B6C-22BF-4B5E-9F83-2946BDB9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9C22D-C826-428A-8F32-57211D1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6350B-2A37-416A-9649-FDE7D8C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C83C-B81E-4CBB-B81A-9C8D34E2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7EAD7-4843-4547-8974-4B2B0654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136B-F2A7-4E91-BA42-8EA47251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D6AFF-A92D-42BA-8113-9289FDEE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013BC-ADE6-4EF5-9A2B-4D93C3F0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F7271-9745-466F-BE74-41A9E7EB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09C18-5085-4441-85B1-14AC0F4C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9837-4C97-4CCB-94FF-EBDA43EEA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0ECB-869A-4CA4-8E8E-F4D53921A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4161-2BDC-421E-B067-CE47C849B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B37E-FAAE-4FE1-ABC7-0169592A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CA05-1B34-4794-9E2C-CB4B28418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8037-9044-4AF8-97CE-B546FF94F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12A0-5CA1-435D-B4C3-826381F2A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032E-E376-4BF8-BFFC-E504BF4C9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al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71160"/>
            <a:ext cx="53341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5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45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71680" y="888840"/>
            <a:ext cx="85723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126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30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4793-0477-4E6A-9A35-27418E42A544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C767-C919-4811-BFD3-3F332870E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5854-A324-471F-BA27-DC299AB82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6360-A7CB-4778-8BCD-7C82CC5A0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24A0-464C-4B2F-A0F3-C935986E5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57E5-3214-4A06-AD6D-DEA7D9EBF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alibrati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are-lynx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76" name="Picture 2" descr=""/>
          <p:cNvPicPr/>
          <p:nvPr/>
        </p:nvPicPr>
        <p:blipFill>
          <a:blip r:embed="rId1"/>
          <a:stretch/>
        </p:blipFill>
        <p:spPr>
          <a:xfrm>
            <a:off x="647640" y="1219320"/>
            <a:ext cx="78361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are-lynx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31852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at populations of rabbits and wolves are described by the Lotka-Volterra equations wit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8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0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sured in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initially 40 wolves and 1000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rabbits population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1427760" y="5157720"/>
            <a:ext cx="58089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: prey mortality by pre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b: predation growth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 using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1" descr="Captura de Tela 2016-07-21 às 17.49.57.png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7196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3"/>
          <p:cNvSpPr/>
          <p:nvPr/>
        </p:nvSpPr>
        <p:spPr>
          <a:xfrm>
            <a:off x="0" y="6381720"/>
            <a:ext cx="36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C. Codeço, Population dynamics of Aedes aegypti,vector of Dengue Fe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 using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ing cyc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1141560" y="2565360"/>
            <a:ext cx="208728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3589200" y="2565360"/>
            <a:ext cx="2087640" cy="711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6084720" y="2565360"/>
            <a:ext cx="2087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6037200" y="3860640"/>
            <a:ext cx="20890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8"/>
          <p:cNvSpPr/>
          <p:nvPr/>
        </p:nvSpPr>
        <p:spPr>
          <a:xfrm>
            <a:off x="3589200" y="3860640"/>
            <a:ext cx="20876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"/>
          <p:cNvSpPr/>
          <p:nvPr/>
        </p:nvSpPr>
        <p:spPr>
          <a:xfrm>
            <a:off x="1141560" y="3860640"/>
            <a:ext cx="2087280" cy="711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Straight Arrow Connector 4"/>
          <p:cNvCxnSpPr>
            <a:stCxn id="726" idx="3"/>
            <a:endCxn id="727" idx="1"/>
          </p:cNvCxnSpPr>
          <p:nvPr/>
        </p:nvCxnSpPr>
        <p:spPr>
          <a:xfrm flipV="1">
            <a:off x="3228480" y="2920320"/>
            <a:ext cx="3610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13"/>
          <p:cNvCxnSpPr/>
          <p:nvPr/>
        </p:nvCxnSpPr>
        <p:spPr>
          <a:xfrm flipV="1">
            <a:off x="5676480" y="292356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14"/>
          <p:cNvCxnSpPr/>
          <p:nvPr/>
        </p:nvCxnSpPr>
        <p:spPr>
          <a:xfrm>
            <a:off x="7117920" y="32889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16"/>
          <p:cNvCxnSpPr/>
          <p:nvPr/>
        </p:nvCxnSpPr>
        <p:spPr>
          <a:xfrm flipV="1">
            <a:off x="5676480" y="421560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36" name="Straight Arrow Connector 17"/>
          <p:cNvCxnSpPr/>
          <p:nvPr/>
        </p:nvCxnSpPr>
        <p:spPr>
          <a:xfrm flipV="1">
            <a:off x="3228480" y="421560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37" name="Straight Arrow Connector 18"/>
          <p:cNvCxnSpPr/>
          <p:nvPr/>
        </p:nvCxnSpPr>
        <p:spPr>
          <a:xfrm>
            <a:off x="2220480" y="328464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alibr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rative process of comparing outputs of model with real data and making adju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simulation adju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applied to mode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Rectangle 2"/>
          <p:cNvSpPr/>
          <p:nvPr/>
        </p:nvSpPr>
        <p:spPr>
          <a:xfrm>
            <a:off x="971640" y="3789360"/>
            <a:ext cx="2087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"/>
          <p:cNvSpPr/>
          <p:nvPr/>
        </p:nvSpPr>
        <p:spPr>
          <a:xfrm>
            <a:off x="3419640" y="3789360"/>
            <a:ext cx="2089080" cy="711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5915160" y="3789360"/>
            <a:ext cx="208728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5867280" y="5084640"/>
            <a:ext cx="20894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3419640" y="5084640"/>
            <a:ext cx="20890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971640" y="5084640"/>
            <a:ext cx="2087640" cy="712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"/>
          <p:cNvCxnSpPr>
            <a:stCxn id="740" idx="3"/>
            <a:endCxn id="741" idx="1"/>
          </p:cNvCxnSpPr>
          <p:nvPr/>
        </p:nvCxnSpPr>
        <p:spPr>
          <a:xfrm flipV="1">
            <a:off x="3058920" y="414432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7" name="Straight Arrow Connector 13"/>
          <p:cNvCxnSpPr/>
          <p:nvPr/>
        </p:nvCxnSpPr>
        <p:spPr>
          <a:xfrm flipV="1">
            <a:off x="5508720" y="4149000"/>
            <a:ext cx="3589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8" name="Straight Arrow Connector 14"/>
          <p:cNvCxnSpPr/>
          <p:nvPr/>
        </p:nvCxnSpPr>
        <p:spPr>
          <a:xfrm>
            <a:off x="6948000" y="45129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16"/>
          <p:cNvCxnSpPr/>
          <p:nvPr/>
        </p:nvCxnSpPr>
        <p:spPr>
          <a:xfrm flipV="1">
            <a:off x="5508720" y="5439600"/>
            <a:ext cx="3589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50" name="Straight Arrow Connector 17"/>
          <p:cNvCxnSpPr/>
          <p:nvPr/>
        </p:nvCxnSpPr>
        <p:spPr>
          <a:xfrm flipV="1">
            <a:off x="3058920" y="5439600"/>
            <a:ext cx="36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51" name="Straight Arrow Connector 18"/>
          <p:cNvCxnSpPr/>
          <p:nvPr/>
        </p:nvCxnSpPr>
        <p:spPr>
          <a:xfrm>
            <a:off x="2050560" y="450864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752" name="Elbow Connector 3"/>
          <p:cNvCxnSpPr>
            <a:stCxn id="745" idx="2"/>
            <a:endCxn id="743" idx="2"/>
          </p:cNvCxnSpPr>
          <p:nvPr/>
        </p:nvCxnSpPr>
        <p:spPr>
          <a:xfrm flipH="1" rot="16200000">
            <a:off x="4460040" y="3353040"/>
            <a:ext cx="8640" cy="4896720"/>
          </a:xfrm>
          <a:prstGeom prst="bentConnector3">
            <a:avLst>
              <a:gd name="adj1" fmla="val 282608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alibration and Valid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Picture 1" descr="Captura de Tela 2016-07-21 às 17.49.57.png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71968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3"/>
          <p:cNvSpPr/>
          <p:nvPr/>
        </p:nvSpPr>
        <p:spPr>
          <a:xfrm>
            <a:off x="1374840" y="1484280"/>
            <a:ext cx="5257800" cy="3832200"/>
          </a:xfrm>
          <a:prstGeom prst="rect">
            <a:avLst/>
          </a:prstGeom>
          <a:solidFill>
            <a:srgbClr val="9999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6632640" y="1484280"/>
            <a:ext cx="2116080" cy="3808440"/>
          </a:xfrm>
          <a:prstGeom prst="rect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2771640" y="1341360"/>
            <a:ext cx="316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ib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6588000" y="1484280"/>
            <a:ext cx="3168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 using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61" name="Picture 1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 using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763" name="Picture 1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5292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5"/>
          <p:cNvSpPr/>
          <p:nvPr/>
        </p:nvSpPr>
        <p:spPr>
          <a:xfrm>
            <a:off x="698400" y="2133720"/>
            <a:ext cx="4594320" cy="2592360"/>
          </a:xfrm>
          <a:prstGeom prst="rect">
            <a:avLst/>
          </a:prstGeom>
          <a:solidFill>
            <a:srgbClr val="9999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292720" y="2133720"/>
            <a:ext cx="2217600" cy="2570040"/>
          </a:xfrm>
          <a:prstGeom prst="rect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1692360" y="1982880"/>
            <a:ext cx="3166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ib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5292720" y="1989000"/>
            <a:ext cx="3166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7510320" y="2133720"/>
            <a:ext cx="1440000" cy="2570040"/>
          </a:xfrm>
          <a:prstGeom prst="rect">
            <a:avLst/>
          </a:prstGeom>
          <a:solidFill>
            <a:srgbClr val="0080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 rot="17863800">
            <a:off x="6937560" y="2571480"/>
            <a:ext cx="3166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Goodness-of-fi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 that defines how the result of a simulation matches re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 of squ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5"/>
          <p:cNvGrpSpPr/>
          <p:nvPr/>
        </p:nvGrpSpPr>
        <p:grpSpPr>
          <a:xfrm>
            <a:off x="1763640" y="2852640"/>
            <a:ext cx="1944720" cy="1127160"/>
            <a:chOff x="1763640" y="2852640"/>
            <a:chExt cx="1944720" cy="1127160"/>
          </a:xfrm>
        </p:grpSpPr>
        <p:pic>
          <p:nvPicPr>
            <p:cNvPr id="773" name="Picture 4" descr="Captura de Tela 2016-07-22 às 09.54.54.png"/>
            <p:cNvPicPr/>
            <p:nvPr/>
          </p:nvPicPr>
          <p:blipFill>
            <a:blip r:embed="rId1"/>
            <a:stretch/>
          </p:blipFill>
          <p:spPr>
            <a:xfrm>
              <a:off x="1763640" y="2852640"/>
              <a:ext cx="194472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7" descr="Captura de Tela 2016-07-22 às 09.54.54.png"/>
            <p:cNvPicPr/>
            <p:nvPr/>
          </p:nvPicPr>
          <p:blipFill>
            <a:blip r:embed="rId2"/>
            <a:srcRect l="5896" t="73160" r="90590" b="5537"/>
            <a:stretch/>
          </p:blipFill>
          <p:spPr>
            <a:xfrm>
              <a:off x="3329280" y="3356640"/>
              <a:ext cx="72000" cy="24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Pedro Andrade</cp:lastModifiedBy>
  <cp:lastPrinted>2012-10-26T17:22:49Z</cp:lastPrinted>
  <dcterms:modified xsi:type="dcterms:W3CDTF">2016-07-22T17:51:50Z</dcterms:modified>
  <cp:revision>491</cp:revision>
  <dc:subject/>
  <dc:title>Low-carbon growth in Brazil?</dc:title>
</cp:coreProperties>
</file>